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7.jpeg" ContentType="image/jpeg"/>
  <Override PartName="/ppt/media/image27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6.png" ContentType="image/png"/>
  <Override PartName="/ppt/media/image23.gif" ContentType="image/gif"/>
  <Override PartName="/ppt/media/image17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3.png" ContentType="image/png"/>
  <Override PartName="/ppt/media/image10.png" ContentType="image/png"/>
  <Override PartName="/ppt/media/image34.png" ContentType="image/png"/>
  <Override PartName="/ppt/media/image11.png" ContentType="image/png"/>
  <Override PartName="/ppt/media/image19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A0F-7E36-4BBE-8A1C-CAC1FE45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F16-D850-4E09-979F-74DAE77E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C58-9643-44CA-8FED-C53C9FE2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4D1-7CFD-433B-9A76-8A49DC97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2C7-D0AC-4F9F-B336-293818F4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D0D-C37F-408A-BCAC-D6A8A5B4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33D-0BB8-4029-AF8B-E2E57BBD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7A2-7ED0-4B0B-9242-7BAFA889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95A-47B6-4324-B951-0702E20E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738-B4C7-474F-B3D1-F61A72A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CF5-1323-4C50-832C-1CC960A7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936-3FB2-43E8-AB43-3328EC9D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1D8CD-444C-4AAE-98A7-0A3F91EEAF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27869-201C-49A5-90AE-ECF417A7E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4800" spc="-1" strike="noStrike">
                <a:solidFill>
                  <a:srgbClr val="008000"/>
                </a:solidFill>
                <a:latin typeface="Calibri"/>
              </a:rPr>
              <a:t>¿Qué estudias?</a:t>
            </a:r>
            <a:r>
              <a:rPr b="0" lang="en-US" sz="4800" spc="-1" strike="noStrike">
                <a:solidFill>
                  <a:srgbClr val="ff6600"/>
                </a:solidFill>
                <a:latin typeface="Calibri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signatur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Aprendemos Hoy </a:t>
            </a:r>
            <a:r>
              <a:rPr b="0" i="1" lang="en-US" sz="3200" spc="-1" strike="noStrike">
                <a:solidFill>
                  <a:srgbClr val="008000"/>
                </a:solidFill>
                <a:latin typeface="Calibri"/>
              </a:rPr>
              <a:t>(We are learning to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your class subjects and what day you study each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use th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udiar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study, in all pronoun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describe your teac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enos d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ía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uc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5029200" y="0"/>
            <a:ext cx="4114800" cy="220968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Buenos días Cha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3" descr="528781-meet_charlie_brown_big_large.gif"/>
          <p:cNvPicPr/>
          <p:nvPr/>
        </p:nvPicPr>
        <p:blipFill>
          <a:blip r:embed="rId1"/>
          <a:stretch/>
        </p:blipFill>
        <p:spPr>
          <a:xfrm>
            <a:off x="1371600" y="2895480"/>
            <a:ext cx="2468520" cy="362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495680" y="2629080"/>
            <a:ext cx="33642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8"/>
          <p:cNvSpPr/>
          <p:nvPr/>
        </p:nvSpPr>
        <p:spPr>
          <a:xfrm>
            <a:off x="0" y="0"/>
            <a:ext cx="4648320" cy="1981080"/>
          </a:xfrm>
          <a:prstGeom prst="wedgeEllipseCallout">
            <a:avLst>
              <a:gd name="adj1" fmla="val 29472"/>
              <a:gd name="adj2" fmla="val 87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 est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5029200" y="0"/>
            <a:ext cx="4114800" cy="2209680"/>
          </a:xfrm>
          <a:prstGeom prst="wedgeEllipseCallout">
            <a:avLst>
              <a:gd name="adj1" fmla="val -32893"/>
              <a:gd name="adj2" fmla="val 74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¡Muy bi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y tú? ¿Qué 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03.jpg"/>
          <p:cNvPicPr/>
          <p:nvPr/>
        </p:nvPicPr>
        <p:blipFill>
          <a:blip r:embed="rId1"/>
          <a:stretch/>
        </p:blipFill>
        <p:spPr>
          <a:xfrm>
            <a:off x="1790640" y="2743200"/>
            <a:ext cx="57150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8"/>
          <p:cNvSpPr/>
          <p:nvPr/>
        </p:nvSpPr>
        <p:spPr>
          <a:xfrm>
            <a:off x="0" y="0"/>
            <a:ext cx="4495680" cy="26290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ues de verdad, estoy muy 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4495680" y="0"/>
            <a:ext cx="4648320" cy="3218040"/>
          </a:xfrm>
          <a:prstGeom prst="wedgeEllipseCallout">
            <a:avLst>
              <a:gd name="adj1" fmla="val -3740"/>
              <a:gd name="adj2" fmla="val 61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Por qué Cha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a_014_lucy_decal__27684.gif"/>
          <p:cNvPicPr/>
          <p:nvPr/>
        </p:nvPicPr>
        <p:blipFill>
          <a:blip r:embed="rId1"/>
          <a:stretch/>
        </p:blipFill>
        <p:spPr>
          <a:xfrm>
            <a:off x="3840120" y="3733920"/>
            <a:ext cx="4751280" cy="285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887 Charlie Brown.jpg"/>
          <p:cNvPicPr/>
          <p:nvPr/>
        </p:nvPicPr>
        <p:blipFill>
          <a:blip r:embed="rId2"/>
          <a:stretch/>
        </p:blipFill>
        <p:spPr>
          <a:xfrm>
            <a:off x="914400" y="3581280"/>
            <a:ext cx="16635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ca_014_lucy_decal__27684.gif"/>
          <p:cNvPicPr/>
          <p:nvPr/>
        </p:nvPicPr>
        <p:blipFill>
          <a:blip r:embed="rId1"/>
          <a:stretch/>
        </p:blipFill>
        <p:spPr>
          <a:xfrm>
            <a:off x="3840120" y="3733920"/>
            <a:ext cx="4751280" cy="285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887 Charlie Brown.jpg"/>
          <p:cNvPicPr/>
          <p:nvPr/>
        </p:nvPicPr>
        <p:blipFill>
          <a:blip r:embed="rId2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2349360" y="2743200"/>
            <a:ext cx="298152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ues teng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un examen en la clase de matemá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840120" y="0"/>
            <a:ext cx="5303880" cy="3429000"/>
          </a:xfrm>
          <a:prstGeom prst="wedgeEllipseCallout">
            <a:avLst>
              <a:gd name="adj1" fmla="val -3740"/>
              <a:gd name="adj2" fmla="val 61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De veras? Yo estudi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mátematicas también, pero no teng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 examen h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¡Qué va! ¿No tienes un examen hoy? ¡No es just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3987720" y="0"/>
            <a:ext cx="5156280" cy="3218040"/>
          </a:xfrm>
          <a:prstGeom prst="wedgeEllipseCallout">
            <a:avLst>
              <a:gd name="adj1" fmla="val -3740"/>
              <a:gd name="adj2" fmla="val 61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 siento Cha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ca_014_lucy_decal__27684.gif"/>
          <p:cNvPicPr/>
          <p:nvPr/>
        </p:nvPicPr>
        <p:blipFill>
          <a:blip r:embed="rId1"/>
          <a:stretch/>
        </p:blipFill>
        <p:spPr>
          <a:xfrm>
            <a:off x="3840120" y="3733920"/>
            <a:ext cx="4751280" cy="285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887 Charlie Brown.jpg"/>
          <p:cNvPicPr/>
          <p:nvPr/>
        </p:nvPicPr>
        <p:blipFill>
          <a:blip r:embed="rId2"/>
          <a:stretch/>
        </p:blipFill>
        <p:spPr>
          <a:xfrm>
            <a:off x="609480" y="3565440"/>
            <a:ext cx="1663920" cy="3019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2349360" y="3218040"/>
            <a:ext cx="298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¿Quién es tu profesor d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atemátic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0511-0708-2917-4832_Female_Math_Teacher_clipart_image"/>
          <p:cNvPicPr/>
          <p:nvPr/>
        </p:nvPicPr>
        <p:blipFill>
          <a:blip r:embed="rId3"/>
          <a:stretch/>
        </p:blipFill>
        <p:spPr>
          <a:xfrm>
            <a:off x="2819520" y="2895480"/>
            <a:ext cx="2624040" cy="31244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"/>
          <p:cNvSpPr/>
          <p:nvPr/>
        </p:nvSpPr>
        <p:spPr>
          <a:xfrm>
            <a:off x="3987720" y="0"/>
            <a:ext cx="5156280" cy="3218040"/>
          </a:xfrm>
          <a:prstGeom prst="wedgeEllipseCallout">
            <a:avLst>
              <a:gd name="adj1" fmla="val 481"/>
              <a:gd name="adj2" fmla="val 59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 profesora d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temátic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la señora Angela. Es mu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impáti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vertid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477120" y="3218040"/>
            <a:ext cx="1609560" cy="333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887 Charlie Brown.jpg"/>
          <p:cNvPicPr/>
          <p:nvPr/>
        </p:nvPicPr>
        <p:blipFill>
          <a:blip r:embed="rId2"/>
          <a:stretch/>
        </p:blipFill>
        <p:spPr>
          <a:xfrm>
            <a:off x="1911240" y="3218040"/>
            <a:ext cx="1663920" cy="3019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!Qué suer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good_luck_graphics_05"/>
          <p:cNvPicPr/>
          <p:nvPr/>
        </p:nvPicPr>
        <p:blipFill>
          <a:blip r:embed="rId3"/>
          <a:stretch/>
        </p:blipFill>
        <p:spPr>
          <a:xfrm>
            <a:off x="1447920" y="1143000"/>
            <a:ext cx="1530360" cy="1530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/>
          <p:cNvSpPr/>
          <p:nvPr/>
        </p:nvSpPr>
        <p:spPr>
          <a:xfrm>
            <a:off x="3809880" y="0"/>
            <a:ext cx="4876920" cy="2438280"/>
          </a:xfrm>
          <a:prstGeom prst="wedgeEllipseCallout">
            <a:avLst>
              <a:gd name="adj1" fmla="val 12759"/>
              <a:gd name="adj2" fmla="val 88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Por qué Chavo?  ¿Quién es tu profesor d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temátic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8"/>
          <p:cNvSpPr/>
          <p:nvPr/>
        </p:nvSpPr>
        <p:spPr>
          <a:xfrm>
            <a:off x="0" y="0"/>
            <a:ext cx="4952880" cy="350532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 profesor de matemáticas es el señor Diablo. Es mu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ever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ántipatic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2895480" y="3728880"/>
            <a:ext cx="3124440" cy="1171800"/>
          </a:xfrm>
          <a:prstGeom prst="wedgeEllipseCallout">
            <a:avLst>
              <a:gd name="adj1" fmla="val 53351"/>
              <a:gd name="adj2" fmla="val 107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¡Caramb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83868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eanuts-lucy-psychiatrist.png"/>
          <p:cNvPicPr/>
          <p:nvPr/>
        </p:nvPicPr>
        <p:blipFill>
          <a:blip r:embed="rId2"/>
          <a:stretch/>
        </p:blipFill>
        <p:spPr>
          <a:xfrm>
            <a:off x="6400800" y="4314960"/>
            <a:ext cx="1994040" cy="208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ath-teacher"/>
          <p:cNvPicPr/>
          <p:nvPr/>
        </p:nvPicPr>
        <p:blipFill>
          <a:blip r:embed="rId3"/>
          <a:stretch/>
        </p:blipFill>
        <p:spPr>
          <a:xfrm>
            <a:off x="4257720" y="0"/>
            <a:ext cx="45054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9"/>
          <p:cNvSpPr/>
          <p:nvPr/>
        </p:nvSpPr>
        <p:spPr>
          <a:xfrm>
            <a:off x="2590920" y="0"/>
            <a:ext cx="5029200" cy="3218040"/>
          </a:xfrm>
          <a:prstGeom prst="wedgeEllipseCallout">
            <a:avLst>
              <a:gd name="adj1" fmla="val 27643"/>
              <a:gd name="adj2" fmla="val 63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es. ¿Qué más estudi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hoy Cha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858000" y="3218040"/>
            <a:ext cx="1609560" cy="333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887 Charlie Brown.jpg"/>
          <p:cNvPicPr/>
          <p:nvPr/>
        </p:nvPicPr>
        <p:blipFill>
          <a:blip r:embed="rId2"/>
          <a:stretch/>
        </p:blipFill>
        <p:spPr>
          <a:xfrm>
            <a:off x="609480" y="3157560"/>
            <a:ext cx="19814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ciencias. No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e gust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a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as cienci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6858000" y="3095640"/>
            <a:ext cx="1765440" cy="365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4495680" y="68400"/>
            <a:ext cx="35528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nunciación 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+ e or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 S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“ch” in “loch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6028ff"/>
                </a:solidFill>
                <a:latin typeface="Calibri"/>
              </a:rPr>
              <a:t>g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6028ff"/>
                </a:solidFill>
                <a:latin typeface="Calibri"/>
              </a:rPr>
              <a:t>g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9568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+ anything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S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MC900436342[1]"/>
          <p:cNvPicPr/>
          <p:nvPr/>
        </p:nvPicPr>
        <p:blipFill>
          <a:blip r:embed="rId1"/>
          <a:stretch/>
        </p:blipFill>
        <p:spPr>
          <a:xfrm>
            <a:off x="7135920" y="28584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8"/>
          <p:cNvSpPr/>
          <p:nvPr/>
        </p:nvSpPr>
        <p:spPr>
          <a:xfrm>
            <a:off x="0" y="0"/>
            <a:ext cx="5334120" cy="309564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mbién 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histor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No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e gust</a:t>
            </a:r>
            <a:r>
              <a:rPr b="1" i="1" lang="en-US" sz="36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histor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ampo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6858000" y="3095640"/>
            <a:ext cx="1765440" cy="365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5486400" y="0"/>
            <a:ext cx="328932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ú Lu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2438280" y="2895480"/>
            <a:ext cx="3429000" cy="30258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/>
          <p:cNvSpPr/>
          <p:nvPr/>
        </p:nvSpPr>
        <p:spPr>
          <a:xfrm>
            <a:off x="3733920" y="152280"/>
            <a:ext cx="4889520" cy="3276720"/>
          </a:xfrm>
          <a:prstGeom prst="wedgeEllipseCallout">
            <a:avLst>
              <a:gd name="adj1" fmla="val 14787"/>
              <a:gd name="adj2" fmla="val 6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ver…Hoy 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español.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e gust</a:t>
            </a:r>
            <a:r>
              <a:rPr b="1" i="1" lang="en-US" sz="36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el españo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8"/>
          <p:cNvSpPr/>
          <p:nvPr/>
        </p:nvSpPr>
        <p:spPr>
          <a:xfrm>
            <a:off x="0" y="0"/>
            <a:ext cx="4495680" cy="289548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¿Qué más estudi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2514600" y="3048120"/>
            <a:ext cx="3649680" cy="2943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3733920" y="152280"/>
            <a:ext cx="4889520" cy="3276720"/>
          </a:xfrm>
          <a:prstGeom prst="wedgeEllipseCallout">
            <a:avLst>
              <a:gd name="adj1" fmla="val 12189"/>
              <a:gd name="adj2" fmla="val 61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fí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 gust</a:t>
            </a:r>
            <a:r>
              <a:rPr b="1" i="1" lang="en-US" sz="32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eografí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mbié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2" descr="887 Charlie Brown.jpg"/>
          <p:cNvPicPr/>
          <p:nvPr/>
        </p:nvPicPr>
        <p:blipFill>
          <a:blip r:embed="rId1"/>
          <a:stretch/>
        </p:blipFill>
        <p:spPr>
          <a:xfrm>
            <a:off x="609480" y="3733920"/>
            <a:ext cx="1663920" cy="3019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5707080" y="3218040"/>
            <a:ext cx="2811600" cy="35352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>
            <a:off x="4572000" y="152280"/>
            <a:ext cx="4051440" cy="3003840"/>
          </a:xfrm>
          <a:prstGeom prst="wedgeEllipseCallout">
            <a:avLst>
              <a:gd name="adj1" fmla="val 12893"/>
              <a:gd name="adj2" fmla="val 84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mbién estudi</a:t>
            </a: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ducación físi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4114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858000" y="3095640"/>
            <a:ext cx="1765440" cy="36576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4419720" y="152280"/>
            <a:ext cx="4724280" cy="2943360"/>
          </a:xfrm>
          <a:prstGeom prst="wedgeEllipseCallout">
            <a:avLst>
              <a:gd name="adj1" fmla="val 12712"/>
              <a:gd name="adj2" fmla="val 658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 siento Chavo. Pero tú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ducación físic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ñana.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ontent Placeholder 3" descr="528781-meet_charlie_brown_big_large.gif"/>
          <p:cNvPicPr/>
          <p:nvPr/>
        </p:nvPicPr>
        <p:blipFill>
          <a:blip r:embed="rId2"/>
          <a:stretch/>
        </p:blipFill>
        <p:spPr>
          <a:xfrm>
            <a:off x="593640" y="3429000"/>
            <a:ext cx="2163960" cy="31813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0" y="0"/>
            <a:ext cx="5257800" cy="3429000"/>
          </a:xfrm>
          <a:prstGeom prst="wedgeEllipseCallout">
            <a:avLst>
              <a:gd name="adj1" fmla="val -7305"/>
              <a:gd name="adj2" fmla="val 72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¿Tiene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ducación físi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y? ¡Qué suert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ust</a:t>
            </a:r>
            <a:r>
              <a:rPr b="1" i="1" lang="en-US" sz="28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ucho la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ducación físic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o no teng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ducación físic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3276720" y="3733920"/>
            <a:ext cx="2771640" cy="2428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istockphoto_90711-good-luck"/>
          <p:cNvPicPr/>
          <p:nvPr/>
        </p:nvPicPr>
        <p:blipFill>
          <a:blip r:embed="rId4"/>
          <a:stretch/>
        </p:blipFill>
        <p:spPr>
          <a:xfrm>
            <a:off x="4097160" y="914400"/>
            <a:ext cx="642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ontent Placeholder 3" descr="528781-meet_charlie_brown_big_large.gif"/>
          <p:cNvPicPr/>
          <p:nvPr/>
        </p:nvPicPr>
        <p:blipFill>
          <a:blip r:embed="rId1"/>
          <a:stretch/>
        </p:blipFill>
        <p:spPr>
          <a:xfrm>
            <a:off x="1371600" y="2895480"/>
            <a:ext cx="2468520" cy="36291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/>
          <p:cNvSpPr/>
          <p:nvPr/>
        </p:nvSpPr>
        <p:spPr>
          <a:xfrm>
            <a:off x="0" y="0"/>
            <a:ext cx="4800600" cy="266688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ues sí. Teng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educación físic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ña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5450040" y="2895480"/>
            <a:ext cx="3068640" cy="385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3414600" y="3200400"/>
            <a:ext cx="2772000" cy="2428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istockphoto_90711-good-luck"/>
          <p:cNvPicPr/>
          <p:nvPr/>
        </p:nvPicPr>
        <p:blipFill>
          <a:blip r:embed="rId4"/>
          <a:stretch/>
        </p:blipFill>
        <p:spPr>
          <a:xfrm>
            <a:off x="6186600" y="1987560"/>
            <a:ext cx="637920" cy="9079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9"/>
          <p:cNvSpPr/>
          <p:nvPr/>
        </p:nvSpPr>
        <p:spPr>
          <a:xfrm>
            <a:off x="4114800" y="0"/>
            <a:ext cx="5029200" cy="2666880"/>
          </a:xfrm>
          <a:prstGeom prst="wedgeEllipseCallout">
            <a:avLst>
              <a:gd name="adj1" fmla="val 384"/>
              <a:gd name="adj2" fmla="val 81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ueno Chavo.  Vas a tener más suerte maña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tent Placeholder 3" descr="528781-meet_charlie_brown_big_large.gif"/>
          <p:cNvPicPr/>
          <p:nvPr/>
        </p:nvPicPr>
        <p:blipFill>
          <a:blip r:embed="rId1"/>
          <a:stretch/>
        </p:blipFill>
        <p:spPr>
          <a:xfrm>
            <a:off x="1371600" y="2895480"/>
            <a:ext cx="2468520" cy="362916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8"/>
          <p:cNvSpPr/>
          <p:nvPr/>
        </p:nvSpPr>
        <p:spPr>
          <a:xfrm>
            <a:off x="0" y="0"/>
            <a:ext cx="4419720" cy="1981080"/>
          </a:xfrm>
          <a:prstGeom prst="wedgeEllipseCallout">
            <a:avLst>
              <a:gd name="adj1" fmla="val 15703"/>
              <a:gd name="adj2" fmla="val 85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¡Ojalá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105520" y="2462040"/>
            <a:ext cx="34131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3429000" cy="26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276120" y="3657600"/>
            <a:ext cx="2924280" cy="235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2981160" cy="2587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4"/>
          <a:stretch/>
        </p:blipFill>
        <p:spPr>
          <a:xfrm>
            <a:off x="5105520" y="3646440"/>
            <a:ext cx="34290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431640" y="4110120"/>
            <a:ext cx="3225960" cy="2568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4952880" y="4110120"/>
            <a:ext cx="3167280" cy="277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3"/>
          <a:stretch/>
        </p:blipFill>
        <p:spPr>
          <a:xfrm>
            <a:off x="6858000" y="944640"/>
            <a:ext cx="2174760" cy="28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4"/>
          <a:stretch/>
        </p:blipFill>
        <p:spPr>
          <a:xfrm>
            <a:off x="304920" y="1149480"/>
            <a:ext cx="2981160" cy="2631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5"/>
          <a:stretch/>
        </p:blipFill>
        <p:spPr>
          <a:xfrm>
            <a:off x="3881520" y="1500120"/>
            <a:ext cx="21430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477720" y="1069920"/>
            <a:ext cx="2722680" cy="2711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2"/>
          <a:stretch/>
        </p:blipFill>
        <p:spPr>
          <a:xfrm>
            <a:off x="477720" y="3962520"/>
            <a:ext cx="2551320" cy="2895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3"/>
          <a:stretch/>
        </p:blipFill>
        <p:spPr>
          <a:xfrm>
            <a:off x="5429160" y="119052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5429160" y="3962520"/>
            <a:ext cx="212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áctica con 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graf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</a:t>
            </a: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nolo</a:t>
            </a:r>
            <a:r>
              <a:rPr b="0" lang="en-US" sz="2800" spc="-1" strike="noStrike">
                <a:solidFill>
                  <a:srgbClr val="6028ff"/>
                </a:solidFill>
                <a:latin typeface="Calibri"/>
              </a:rPr>
              <a:t>g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G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j0183290"/>
          <p:cNvPicPr/>
          <p:nvPr/>
        </p:nvPicPr>
        <p:blipFill>
          <a:blip r:embed="rId1"/>
          <a:stretch/>
        </p:blipFill>
        <p:spPr>
          <a:xfrm>
            <a:off x="7045200" y="152280"/>
            <a:ext cx="17240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the Luci y Chavo Dialog…Answer the follow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avo ho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ci ho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Qué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ú ho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ías de la Semana-Can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nday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esday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dnesday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ursday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riday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turday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nday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o se d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Mondays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Tuesdays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Wednesdays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Thursdays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Fridays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Saturdays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Sundays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Qué dia?-</a:t>
            </a:r>
            <a:r>
              <a:rPr b="0" i="1" lang="es-ES" sz="4400" spc="-1" strike="noStrike">
                <a:solidFill>
                  <a:srgbClr val="000000"/>
                </a:solidFill>
                <a:latin typeface="Calibri"/>
              </a:rPr>
              <a:t>What 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dia estudi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matemátic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dia estudi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histor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dia estudi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glé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dia estudi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pañ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cción 3 ¿Quién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ién es la profesora de matemáticas de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ién es el profesor de matemáticas de Cha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ién es tú profesor de matemátic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cción 3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¿Cómo es?-What’s he/she lik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 es el profesor de matemáticas de Cha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 es la profesora de matemáticas de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ómo es tu profesor de matemátic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25 escribir 6 Describe tu semana (write sentences saying what you study on each day of the week) i.e. Los lunes estudi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ribe your teachers for each class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ién es tu profe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profesora de___________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?  ¿Cómo 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y es lu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GYJhr1e8dC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nts á, é, í, ó, ú help you to put the stress in the right pla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gra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nolo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MC900444926[1]"/>
          <p:cNvPicPr/>
          <p:nvPr/>
        </p:nvPicPr>
        <p:blipFill>
          <a:blip r:embed="rId1"/>
          <a:stretch/>
        </p:blipFill>
        <p:spPr>
          <a:xfrm>
            <a:off x="5029200" y="3733920"/>
            <a:ext cx="2060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__________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240" y="141768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___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____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____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pronoun I"/>
          <p:cNvPicPr/>
          <p:nvPr/>
        </p:nvPicPr>
        <p:blipFill>
          <a:blip r:embed="rId1"/>
          <a:stretch/>
        </p:blipFill>
        <p:spPr>
          <a:xfrm>
            <a:off x="3090960" y="1295280"/>
            <a:ext cx="82872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pronoun you"/>
          <p:cNvPicPr/>
          <p:nvPr/>
        </p:nvPicPr>
        <p:blipFill>
          <a:blip r:embed="rId2"/>
          <a:stretch/>
        </p:blipFill>
        <p:spPr>
          <a:xfrm>
            <a:off x="3201840" y="2590920"/>
            <a:ext cx="1195560" cy="123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e pronoun"/>
          <p:cNvPicPr/>
          <p:nvPr/>
        </p:nvPicPr>
        <p:blipFill>
          <a:blip r:embed="rId3"/>
          <a:stretch/>
        </p:blipFill>
        <p:spPr>
          <a:xfrm>
            <a:off x="3232080" y="4200480"/>
            <a:ext cx="122868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she pronoun"/>
          <p:cNvPicPr/>
          <p:nvPr/>
        </p:nvPicPr>
        <p:blipFill>
          <a:blip r:embed="rId4"/>
          <a:stretch/>
        </p:blipFill>
        <p:spPr>
          <a:xfrm>
            <a:off x="3505320" y="5495760"/>
            <a:ext cx="11811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vo y Luci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ignaturas de la Escue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School Class Subjects)</a:t>
            </a:r>
            <a:br>
              <a:rPr sz="44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r Sra. Fr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724280" y="274680"/>
            <a:ext cx="1676520" cy="21081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3" descr="528781-meet_charlie_brown_big_large.gif"/>
          <p:cNvPicPr/>
          <p:nvPr/>
        </p:nvPicPr>
        <p:blipFill>
          <a:blip r:embed="rId2"/>
          <a:stretch/>
        </p:blipFill>
        <p:spPr>
          <a:xfrm>
            <a:off x="3154320" y="611280"/>
            <a:ext cx="1036800" cy="152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169920" y="4638600"/>
            <a:ext cx="2543040" cy="221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29811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5"/>
          <a:stretch/>
        </p:blipFill>
        <p:spPr>
          <a:xfrm>
            <a:off x="6400800" y="4467240"/>
            <a:ext cx="2743200" cy="239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6"/>
          <a:stretch/>
        </p:blipFill>
        <p:spPr>
          <a:xfrm>
            <a:off x="6248520" y="157320"/>
            <a:ext cx="2705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cabulario Nuevo-Match-write the words on the left in the correct sp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17680"/>
            <a:ext cx="5257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ud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-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 gusta-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¡No es justo!-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enes suerte- 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¡Qué suerte!-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ñana- 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s a tener suerte.- 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jalá-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Qui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57440" y="16002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like (it pleases 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pefu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’re going to have lu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luck!/How luck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have luck (You’re luc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like (it pleases yo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mo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’s not fai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signaturas-Class Su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 you listen to the dialog, circle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ignaturas” that Luci and Chavo study in 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43264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vo ve a Luci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eye.png"/>
          <p:cNvPicPr/>
          <p:nvPr/>
        </p:nvPicPr>
        <p:blipFill>
          <a:blip r:embed="rId1"/>
          <a:stretch/>
        </p:blipFill>
        <p:spPr>
          <a:xfrm>
            <a:off x="411480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603760" y="1905120"/>
            <a:ext cx="2133720" cy="442440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3" descr="528781-meet_charlie_brown_big_large.gif"/>
          <p:cNvPicPr/>
          <p:nvPr/>
        </p:nvPicPr>
        <p:blipFill>
          <a:blip r:embed="rId3"/>
          <a:stretch/>
        </p:blipFill>
        <p:spPr>
          <a:xfrm>
            <a:off x="1066680" y="2048040"/>
            <a:ext cx="2773440" cy="407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eart.jpg"/>
          <p:cNvPicPr/>
          <p:nvPr/>
        </p:nvPicPr>
        <p:blipFill>
          <a:blip r:embed="rId4"/>
          <a:stretch/>
        </p:blipFill>
        <p:spPr>
          <a:xfrm>
            <a:off x="1066680" y="1130400"/>
            <a:ext cx="10256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51:06Z</dcterms:created>
  <dc:creator>Mac</dc:creator>
  <dc:description/>
  <dc:language>en-US</dc:language>
  <cp:lastModifiedBy>wanda.snowfrost</cp:lastModifiedBy>
  <dcterms:modified xsi:type="dcterms:W3CDTF">2011-12-15T08:20:02Z</dcterms:modified>
  <cp:revision>114</cp:revision>
  <dc:subject/>
  <dc:title>Slide 1</dc:title>
</cp:coreProperties>
</file>